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F6D-53F9-4627-B4C8-1A06FA09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AC0-D540-4E4A-966A-FCFEB2AE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31A-53E2-4A79-9EE5-EAC1B052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6CE-FFE0-405A-9EF5-1F20F112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54D-8C5F-4C75-8677-1F7FD03E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12C-2A3D-4812-B2DF-C2A7B2D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599-33D5-45DB-BF0C-29590715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97F-A4B3-43F5-A08F-137172B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2B0-E169-4903-94BB-A6AF5EC7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03A-36DD-4B7A-852D-9C483F7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7DA-A294-4A27-808E-4FC6381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57E-BE3C-497B-9CFA-2BE08AD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3A5B-4DA5-4E13-A7C5-3FD15F677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European world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alue of economic and political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alue of economic and political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Power are worth warring o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workers and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workers and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o increase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35680" y="813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ealth to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ealth to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wealth should bring access to foreign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trade with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trade with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that trade would bring wealth to Italian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5:04Z</dcterms:created>
  <dc:creator>fmcsd</dc:creator>
  <dc:description/>
  <dc:language>en-US</dc:language>
  <cp:lastModifiedBy>fmcsd</cp:lastModifiedBy>
  <dcterms:modified xsi:type="dcterms:W3CDTF">2007-10-24T15:14:46Z</dcterms:modified>
  <cp:revision>2</cp:revision>
  <dc:subject/>
  <dc:title>Renaissance</dc:title>
</cp:coreProperties>
</file>